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ftr" idx="5"/>
          </p:nvPr>
        </p:nvSpPr>
        <p:spPr>
          <a:xfrm>
            <a:off x="-360" y="944676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 type="sldNum" idx="6"/>
          </p:nvPr>
        </p:nvSpPr>
        <p:spPr>
          <a:xfrm>
            <a:off x="3884400" y="944676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9E11F-4CA5-4BEE-94DC-2F33CACCD42A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幻灯片编号占位符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320F5-B08F-4C29-B15D-06CA150D40B9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幻灯片编号占位符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95D26-612A-4AF9-A45D-824FA613D87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幻灯片编号占位符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45B8B-4DAD-4EC0-A3A8-90C29EC28245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幻灯片编号占位符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B5E73-2CDE-4585-B793-E1448D6F1DCF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灯片编号占位符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59CFD-9B57-44BE-94D9-F78C51823F69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灯片编号占位符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AE6FA-F6E8-48FD-B22E-0E61C7B9C79F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灯片编号占位符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1CB93-DA5E-4D5B-AE8B-931E7759FBD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灯片编号占位符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2A3AD-0C6B-4287-8F0A-378D84650851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灯片编号占位符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94E0E-5C11-4B8F-B9D8-42A766B26BA3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幻灯片编号占位符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E07C7-58C7-4E89-A196-827FD363FC75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A866F-9601-414C-B9B2-E415B1847A37}" type="slidenum">
              <a:rPr b="0" lang="ko-KR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幻灯片编号占位符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C5516-10ED-4F52-861D-0576CEB7998C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灯片编号占位符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EC215-81A4-4542-ABFD-D67972601435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539640" y="720720"/>
            <a:ext cx="5761080" cy="43196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灯片编号占位符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57744-6EF4-40C9-BB22-4F08EB1CC6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539640" y="720720"/>
            <a:ext cx="5761080" cy="431964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灯片编号占位符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34FF4-AB68-4EE2-927B-14B863A2C2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21A2-2FE2-49F2-9470-F0838B704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AF2B-026C-47C4-9BD4-418B7120C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5CE3-4F3B-43FA-8074-A0B19C8D5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6F5E-67C2-4FEE-8CDF-0E80A0C5A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8525-1CD0-4D2A-B3DF-7CBBF2C23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5A08-E4AE-4C69-8E04-A57A690F6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413A-826A-40BA-8A0E-BF470C80E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680C-2B18-44AD-AED2-A36963383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6787-DCF1-44AC-B4DC-F29BDC3F3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5696-2A66-4816-9960-7C90A4F05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1048-8AB9-47E5-80DD-3DB52B465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8005-CFC1-4960-B548-82F101CC3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D6F6C-E488-4566-B24B-B7DF61C97AE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图片 1" descr=""/>
          <p:cNvPicPr/>
          <p:nvPr/>
        </p:nvPicPr>
        <p:blipFill>
          <a:blip r:embed="rId1"/>
          <a:stretch/>
        </p:blipFill>
        <p:spPr>
          <a:xfrm>
            <a:off x="262080" y="0"/>
            <a:ext cx="86198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图片 1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6390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图片 1" descr=""/>
          <p:cNvPicPr/>
          <p:nvPr/>
        </p:nvPicPr>
        <p:blipFill>
          <a:blip r:embed="rId1"/>
          <a:stretch/>
        </p:blipFill>
        <p:spPr>
          <a:xfrm>
            <a:off x="0" y="2421000"/>
            <a:ext cx="9144000" cy="13428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图片 1" descr=""/>
          <p:cNvPicPr/>
          <p:nvPr/>
        </p:nvPicPr>
        <p:blipFill>
          <a:blip r:embed="rId1"/>
          <a:stretch/>
        </p:blipFill>
        <p:spPr>
          <a:xfrm>
            <a:off x="0" y="2421000"/>
            <a:ext cx="9144000" cy="13428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图片 2" descr=""/>
          <p:cNvPicPr/>
          <p:nvPr/>
        </p:nvPicPr>
        <p:blipFill>
          <a:blip r:embed="rId1"/>
          <a:stretch/>
        </p:blipFill>
        <p:spPr>
          <a:xfrm>
            <a:off x="468360" y="1197000"/>
            <a:ext cx="8210520" cy="456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图片 3" descr=""/>
          <p:cNvPicPr/>
          <p:nvPr/>
        </p:nvPicPr>
        <p:blipFill>
          <a:blip r:embed="rId1"/>
          <a:stretch/>
        </p:blipFill>
        <p:spPr>
          <a:xfrm>
            <a:off x="355680" y="506520"/>
            <a:ext cx="8432640" cy="623556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图片 1" descr=""/>
          <p:cNvPicPr/>
          <p:nvPr/>
        </p:nvPicPr>
        <p:blipFill>
          <a:blip r:embed="rId1"/>
          <a:stretch/>
        </p:blipFill>
        <p:spPr>
          <a:xfrm>
            <a:off x="262080" y="0"/>
            <a:ext cx="861984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图片 1" descr=""/>
          <p:cNvPicPr/>
          <p:nvPr/>
        </p:nvPicPr>
        <p:blipFill>
          <a:blip r:embed="rId1"/>
          <a:stretch/>
        </p:blipFill>
        <p:spPr>
          <a:xfrm>
            <a:off x="23760" y="1593720"/>
            <a:ext cx="9096480" cy="36705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图片 2" descr=""/>
          <p:cNvPicPr/>
          <p:nvPr/>
        </p:nvPicPr>
        <p:blipFill>
          <a:blip r:embed="rId1"/>
          <a:stretch/>
        </p:blipFill>
        <p:spPr>
          <a:xfrm>
            <a:off x="279360" y="1844640"/>
            <a:ext cx="8585280" cy="233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图片 2" descr=""/>
          <p:cNvPicPr/>
          <p:nvPr/>
        </p:nvPicPr>
        <p:blipFill>
          <a:blip r:embed="rId1"/>
          <a:stretch/>
        </p:blipFill>
        <p:spPr>
          <a:xfrm>
            <a:off x="407880" y="1073160"/>
            <a:ext cx="8328240" cy="471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图片 3" descr=""/>
          <p:cNvPicPr/>
          <p:nvPr/>
        </p:nvPicPr>
        <p:blipFill>
          <a:blip r:embed="rId1"/>
          <a:stretch/>
        </p:blipFill>
        <p:spPr>
          <a:xfrm>
            <a:off x="0" y="774720"/>
            <a:ext cx="9144000" cy="530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图片 1" descr=""/>
          <p:cNvPicPr/>
          <p:nvPr/>
        </p:nvPicPr>
        <p:blipFill>
          <a:blip r:embed="rId1"/>
          <a:stretch/>
        </p:blipFill>
        <p:spPr>
          <a:xfrm>
            <a:off x="0" y="2492280"/>
            <a:ext cx="9144000" cy="13431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图片 2" descr=""/>
          <p:cNvPicPr/>
          <p:nvPr/>
        </p:nvPicPr>
        <p:blipFill>
          <a:blip r:embed="rId1"/>
          <a:stretch/>
        </p:blipFill>
        <p:spPr>
          <a:xfrm>
            <a:off x="1116000" y="692280"/>
            <a:ext cx="6834240" cy="4425840"/>
          </a:xfrm>
          <a:prstGeom prst="rect">
            <a:avLst/>
          </a:prstGeom>
          <a:ln w="0">
            <a:noFill/>
          </a:ln>
        </p:spPr>
      </p:pic>
      <p:pic>
        <p:nvPicPr>
          <p:cNvPr id="131" name="图片 2" descr=""/>
          <p:cNvPicPr/>
          <p:nvPr/>
        </p:nvPicPr>
        <p:blipFill>
          <a:blip r:embed="rId2"/>
          <a:stretch/>
        </p:blipFill>
        <p:spPr>
          <a:xfrm>
            <a:off x="0" y="5229360"/>
            <a:ext cx="9144000" cy="134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8537040" y="6527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930240" y="228600"/>
            <a:ext cx="389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同理心倾听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mpathic Liste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27720" y="6600960"/>
            <a:ext cx="47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Hab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412560" y="6524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8"/>
          <p:cNvSpPr/>
          <p:nvPr/>
        </p:nvSpPr>
        <p:spPr>
          <a:xfrm>
            <a:off x="861840" y="6607080"/>
            <a:ext cx="2955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eek First to Understand, Then to Be Understoo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9"/>
          <p:cNvSpPr/>
          <p:nvPr/>
        </p:nvSpPr>
        <p:spPr>
          <a:xfrm>
            <a:off x="723960" y="6629400"/>
            <a:ext cx="0" cy="195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图片 1" descr=""/>
          <p:cNvPicPr/>
          <p:nvPr/>
        </p:nvPicPr>
        <p:blipFill>
          <a:blip r:embed="rId1"/>
          <a:stretch/>
        </p:blipFill>
        <p:spPr>
          <a:xfrm>
            <a:off x="407880" y="1069920"/>
            <a:ext cx="8328240" cy="538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8537040" y="6527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930240" y="228600"/>
            <a:ext cx="389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同理心倾听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mpathic Liste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27720" y="6600960"/>
            <a:ext cx="47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Hab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412560" y="6524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8"/>
          <p:cNvSpPr/>
          <p:nvPr/>
        </p:nvSpPr>
        <p:spPr>
          <a:xfrm>
            <a:off x="861840" y="6607080"/>
            <a:ext cx="2955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eek First to Understand, Then to Be Understoo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9"/>
          <p:cNvSpPr/>
          <p:nvPr/>
        </p:nvSpPr>
        <p:spPr>
          <a:xfrm>
            <a:off x="723960" y="6629400"/>
            <a:ext cx="0" cy="195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图片 2" descr=""/>
          <p:cNvPicPr/>
          <p:nvPr/>
        </p:nvPicPr>
        <p:blipFill>
          <a:blip r:embed="rId1"/>
          <a:stretch/>
        </p:blipFill>
        <p:spPr>
          <a:xfrm>
            <a:off x="36360" y="1236600"/>
            <a:ext cx="9071280" cy="4384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22T12:06:56Z</dcterms:created>
  <dc:creator>shentong6903@163.com</dc:creator>
  <dc:description/>
  <dc:language>en-US</dc:language>
  <cp:lastModifiedBy>Joanna</cp:lastModifiedBy>
  <cp:lastPrinted>2017-05-02T00:32:14Z</cp:lastPrinted>
  <dcterms:modified xsi:type="dcterms:W3CDTF">2019-05-16T01:46:35Z</dcterms:modified>
  <cp:revision>1199</cp:revision>
  <dc:subject/>
  <dc:title>幻灯片 1</dc:title>
</cp:coreProperties>
</file>